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021B-EAC9-4896-B053-ACF893BF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E42-D6D4-466B-B1B3-0A9A90454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1C7-F8E9-44AB-A428-67AA2558D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7A13-5302-4BF9-B035-ECBC3F26AB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231-133E-48EE-8BAF-F7B93F4739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848-C9A7-41C0-BF7B-AC5C31913B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798-AE15-4B9C-AFAB-7F1CAE83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55E-D4AB-44AC-BA43-41E518E8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EC0-07F1-4B43-B3FC-037E28A4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26E-3917-49A4-85B6-09721C7C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57C0-DB8E-47BB-9094-7D5A2CE3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C32-0F6E-48DA-8353-15F1E81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E68D-E2D0-4399-8C43-9D8F301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A591-5A52-471E-A1A7-A103C55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B033-5DD7-4C8E-9EA1-8C0519DC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0B5D-12F7-4D16-8C31-B7422B75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FC01-809B-483B-A69A-43F6C99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7B7-499C-4B05-A47E-A532CFD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3504-3D71-41B4-9C9F-394FD32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C4A-5BC9-4E53-9F1F-AFAD931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FE9-562C-48B4-82B5-39D7BA0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29C1-E060-467F-85D4-CE016D86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3D64-C679-45E8-97A2-B064F5D3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D91-3AC8-4C0F-A18A-202A387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15E-BD20-49A6-8112-4465A947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8E6-E601-400F-8ABD-E5EE0A94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C3E-EC51-4536-861B-8C79F9B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38E-B5BA-482F-909D-10F7636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47C-2CC6-4BE4-95F9-F78C257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DD3-7A10-44E3-A174-D5D09F5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459-8FC6-4EEC-BAC9-3194B17A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336-F069-452F-B567-C9C71D30E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titutional Convention ONQ #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The ______ Plan favored small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5911920" y="3048120"/>
            <a:ext cx="277164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The ______ Plan favored large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07672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en the Confederation Congress agreed to amend the Articles of Confederation what did they actually do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17812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he ____ ________, also known as the Connecticut Plan, created a bicameral legislatur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2209680" y="3422520"/>
            <a:ext cx="48816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How many original Senators would there have been according to the Constitu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255840" cy="243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7086600" y="2589120"/>
            <a:ext cx="1689120" cy="21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4724280" y="4667400"/>
            <a:ext cx="1704960" cy="21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6T13:20:47Z</dcterms:modified>
  <cp:revision>131</cp:revision>
  <dc:subject/>
  <dc:title>D/O: TO EXPLAIN AND IDENTIFY PROBLEMS OF ECONOMICS</dc:title>
</cp:coreProperties>
</file>